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96E-8BC2-45E8-9311-23873E5D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F14-17DE-4E64-9DD6-9D48B68C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9AF-3714-4C5D-A0EF-6D6DD3E5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91A-F340-4417-A5B7-B917DBB3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4A79-2225-4C8E-9C2C-5DFBC54D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E0D1-4C0C-45E8-B7C5-9B6E153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36B-C444-4414-8C90-C3DAA5DE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364D-C6C7-4194-9966-7203D07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1360-EA29-47CB-BEF4-5AD5946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9E3-99E4-40E9-9298-8BB57CDA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86B5-DB2E-4BA4-A206-12629C7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EA3-A2DB-4766-83FD-466B01A3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E345-B1AC-4FB0-893B-47627A7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B404-27DA-4D3F-8E17-114767CC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1AB2-542F-4DA3-9720-6797CAED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BDDD-F5F9-4683-9139-A7BDDD8A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D9F-7F8D-4F1F-83BE-D88C13AF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8B8A-BD09-46E2-8DC0-F2A5F5D9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D0BE-C3A9-4FC9-8A9C-1EB7095F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B37E-B53A-41FB-BE89-76B6AD30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504B-F3BA-4BAE-8C3C-FA6BEC01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9C67-2EBC-4DD3-B1FB-1D69609D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AB6-7CF9-4BD7-BB2C-5F5959F9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64C8-66A8-441C-B235-5FB6E3C8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595B-7694-4600-B0A1-91CF4DAF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8F63-7F96-4FDE-B269-C568549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AC07-FC9D-46FF-859A-C35FEB32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9DE2-B1AC-4722-A65A-54441B44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DAF3-AF5E-4D26-A92F-991C0B30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AC42-1D1D-4643-A052-CB566D67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D4EA-812B-4FC6-ADD4-CE8FD5CE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CD69D-BA79-435D-A87C-4ADC27DC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A23F-AA9B-447D-9C45-2D643726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FB6-AD7D-47B5-AA30-3CA9DC49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FB14-9B38-4C01-8C65-F08A6EBF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E864-834D-47CA-8997-3FDB0CC9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0147-7179-4A28-A922-DA3098D8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6C67B-8AA4-4AF2-B8B5-678AE28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6D07-17A4-45E6-8155-4DE5D40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F891-FDCC-4B62-BF85-70D6013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EF34-952E-40E7-8D33-A4F838E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12D4-3029-4297-ACA8-57468AD4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D55E-A89B-447C-AE0F-ED70CDB2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2A52-E31E-4B59-BF44-3A8EF069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BCC-F961-442D-97E9-DB2BD475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BC9BB-0217-4596-A405-D11DD244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719F-6F95-447E-A129-401ABBFE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CE50-33FD-4CDA-A95F-B540F14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A34C9-E829-4700-B4BA-EC07489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C4FA-09B5-4D15-9E07-D1303083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9524-06E4-4AD8-BD81-A41DD52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4FFC-C8CD-4672-9B4D-3CB589A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44CF-CBB9-4AE2-8170-BB38658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2447A-CD64-4FD0-91F9-2C8B34B1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A27C-9A5F-4415-994C-1890B9B5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7B1-45C0-4382-8552-A374F39C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A3BB-A2A5-4081-8027-6A9996E5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3AA28-BA5B-4FC7-9067-C2CF1BF6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6698D-E2B5-49BB-A7B1-76C6A0BC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7FCC-AB3B-4D56-BA45-835DE590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62E8-41CB-419C-AC5C-061F7B91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BC62-2827-4723-84F3-1F427CB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16F8-C1C1-4BF4-BB91-B28FC387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9034-5BEE-40C3-AC48-57EA03E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3AEF1-530E-42BB-87C2-7BC0FD0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A8B3-B27D-4578-84C3-E004831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B4F-9896-4474-B137-34E2166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3177-6E61-426B-9CBA-257F921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19380-0C46-4B5B-AE2C-AF831AE5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F3C1B-BDC5-4C3E-8806-A4470DEE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6AD-2621-4485-BBC5-84B191B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3D4-664D-4FA1-8191-001AC73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3623-73BC-4C63-AFB7-4FC0490F886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1CE5-51BD-4134-B2A4-56BA020177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1C74-20A4-409C-88AC-C4B9BB55B0F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75E2-0E08-43C9-96B1-8EC27F9D7B8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7D9-2651-4BCD-B9D5-2B166E5C00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49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250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6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268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272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76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80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4A45-87C4-45FF-9660-8C1EB1B10BF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еформация и становление Англии при Тюдорах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99720" y="3714480"/>
            <a:ext cx="639612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Выполнил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0040" y="1643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акое место в истории Англии занимает династия Тюдоров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Monotype Corsiva"/>
              </a:rPr>
              <a:t>http://www.uk.ru/history/tudors.htm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Monotype Corsiva"/>
              </a:rPr>
              <a:t>http://ru.wikipedia.org/wiki/%D0%A2%D1%8E%D0%B4%D0%BE%D1%8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Monotype Corsiva"/>
              </a:rPr>
              <a:t>http://www.erudition.ru/referat/printref/id.26454_1.htm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windows</cp:lastModifiedBy>
  <dcterms:modified xsi:type="dcterms:W3CDTF">2009-11-28T13:26:07Z</dcterms:modified>
  <cp:revision>62</cp:revision>
  <dc:subject/>
  <dc:title>Слайд 1</dc:title>
</cp:coreProperties>
</file>